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7D0-4A07-4A77-9BA6-9B1DD7A8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E88-32F1-48DA-BF56-ACE89C85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290-4BA5-4C03-A3D2-EDF64B2F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2FF-4AE4-4CD9-B19D-9C59362F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7D7-B824-4174-AD7F-F9AB3C53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021-2233-4EE0-AF99-9E62CAE2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69A-2CC1-49F0-ADE2-AF110546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60E-79D6-4F5C-A762-5CCBF2CB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77F-92C3-448A-9F76-3CF93DE5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047-916F-4889-9A4C-E5CF0FE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085-AC07-483E-AD17-69FCAAFA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7C1-2EC1-45BB-86E1-1C3D15FE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6617-80AB-4C7D-942E-7318AFAA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olegio Básico Pompilio Martín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AMBIENTAL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2784600"/>
            <a:ext cx="417672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jas para cuaderno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jetea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jas deco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 fósf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sas para reg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rre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a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 libr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rap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47640" y="404640"/>
            <a:ext cx="7056720" cy="9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¿QUE PRODUCIM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236000" y="4581360"/>
            <a:ext cx="1474560" cy="18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020000" y="2205000"/>
            <a:ext cx="1787400" cy="182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356000" y="4564080"/>
            <a:ext cx="1787760" cy="2293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932360" y="2205000"/>
            <a:ext cx="1817640" cy="1719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916360" y="2133720"/>
            <a:ext cx="1590480" cy="225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484360" y="4724280"/>
            <a:ext cx="17478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1998: P.E.I. Sobresaliente a nivel muni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1999: P.E.I. Sobresaliente con el proyecto PRAES a nivel depart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0 y 2001: Participación a nivel municipal en la feria agroindustrial y artes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o ambi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ción de excel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2 y 2003:Implementación del bachillerato con énfasis en Medio Ambiente e Informá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4: Conversión a la especialidad en Gestión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050920" y="549360"/>
            <a:ext cx="53294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ANANC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ambiental escolar que pretende el mejoramiento del entorno mediante acciones que optimicen la calidad de vida de cada miembro de la comunidad educ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19280" y="476280"/>
            <a:ext cx="5329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A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76640"/>
            <a:ext cx="2681280" cy="219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4724280"/>
            <a:ext cx="11811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AES del Colegio Básico Pompilio Martínez a tenido un proceso coherente desde el año 1998, mediante la sensibilización y concientizaciòn de la comunidad educativa para proteger y conservar el medio ambien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92360" y="404640"/>
            <a:ext cx="5759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EÑA HISTORIC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360" y="4797360"/>
            <a:ext cx="3095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2920" y="404640"/>
            <a:ext cx="7416720" cy="7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O INICIAM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1628640"/>
            <a:ext cx="5400720" cy="468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400536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1374840" cy="18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88000" y="2332080"/>
            <a:ext cx="1655640" cy="158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2060640"/>
            <a:ext cx="1443240" cy="200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987640" y="4076640"/>
            <a:ext cx="1636920" cy="1681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788000" y="4005360"/>
            <a:ext cx="1911240" cy="195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59280" y="134136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VENE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6237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TODOS RECICLAMOS TODOS GAN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ver e impulsar la conservación del medio ambiente en las instituciones educativas del munici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r el desarrollo de actividades socioculturales, artísticas y ecológicas a nivel municipal departamental y na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mentar el reciclaje como microempresa escolar del C.B.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r la tecnología al proceso de reciclaje como parte de la formación integral del educando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92360" y="47628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BJETIVO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ientizaciòn de la población escolar cajiqueña acerca de la necesidad e importancia de reutilizar desechos para conservar el med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r a los estudiantes en las diferentes técnicas artísticas reutilizando dese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r papel reciclado para utilizarlo artística y académ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frutar del proceso de reciclaje como aprovechamiento del tiempo li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rcialización de productos elaborados con el papel reciclado para fomentar la microempresa escolar y familia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79640" y="765000"/>
            <a:ext cx="47530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GRO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someter de nuevo una materia o producto ya utilizado a un ciclo de tratamiento parcial o total para obtener un nuevo producto o materia que pueda emplear o usar la comun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2303280" cy="213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508464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howcard Gothic"/>
                <a:ea typeface="MS Gothic"/>
              </a:rPr>
              <a:t>!!SI RECICLAMOS MEJORAMOS NUESTRO ENTORNO Y DAMOS VIDA A LAS COSAS QUE NO LA TENIA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08000" y="54936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¿ QUE ES RECICLAR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4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olegio Básico Pompilio Martínez recic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 periód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jas de cua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 crep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 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-2124360" y="2997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 RECICLAM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2924280"/>
            <a:ext cx="25084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emos de las diferentes dependencias de C.B.P.M. los materiales a recic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cionamos dich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someten los materiales elegidos al proceso de reciclaje agregándole diferentes sustancias como anilinas, decolorantes, achiote, residuos vegetales y otros para obtener diferentes texturas de pap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ción de productos, exhibición y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47640" y="404640"/>
            <a:ext cx="5472360" cy="10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O LO HACEM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3:54:02Z</dcterms:created>
  <dc:creator>Pedro Castellanos</dc:creator>
  <dc:description/>
  <dc:language>en-US</dc:language>
  <cp:lastModifiedBy>Pedro Castellanos</cp:lastModifiedBy>
  <dcterms:modified xsi:type="dcterms:W3CDTF">2006-06-01T03:39:17Z</dcterms:modified>
  <cp:revision>8</cp:revision>
  <dc:subject/>
  <dc:title>Colegio Básico Pompilio Martínez</dc:title>
</cp:coreProperties>
</file>